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5EE-81AC-4FA2-B2BE-3C4F99BF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CF1-D3C2-4906-B20B-02201CE3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C21-84DC-4D90-B3BB-09E15C1C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5FF-03B1-44A8-A544-D9BBF154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3807-FA26-48B2-B0E3-094522B4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1D2E-5BB1-4F12-9259-9E8CAF36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D4F6-8ABE-489E-A150-2D05A06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4E2A-28B7-492C-A206-DFAD1E9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1775-F6F7-4778-8E5E-7778383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BE4C-E52C-4E7B-8E60-759A79BF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908E-8CB6-44EC-BA66-C963345C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2CC-A90B-472D-96F4-CEBD1DEA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CB25-7A8B-44FC-844D-62AE2FB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D50B-8C2B-44C4-98EA-F78EF65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6F18-EB3A-4319-8D43-5D0FBB2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5B93-0515-492C-AF64-AA3553DF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7D55-DA0C-41A2-A147-9AB0780D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AAEB4-7F90-4285-8DE3-A39EE567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9AEA1-254C-4667-B7DD-F62A8A6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2784C-AF91-48FF-AD72-A29A7EA6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341E2-7C95-41A7-AA5A-6087DFD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6974B-14DC-4176-8498-9026242A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AB2-B2E0-430E-9905-C1CAAA61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D1A25-52E7-4AE5-B31D-66A5D2DD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A6F09-7B81-4AF0-A04F-A6AB733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0D1FD-97BB-4DD5-A13F-74C6ECF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8065C-FEC5-4B16-8A41-3FDF4EA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90B51-A146-40D3-8633-1060B324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3DB86-DA86-42C9-8EE6-923701F4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D03D2-6C12-4B03-A7AD-C8FBC91A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AA54-C173-4760-829F-066B9CC9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02C4-C8BF-48F1-A966-8E5D7061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48A0-519C-4E23-B2C6-678874F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631-BF48-4E9D-B1D6-3ACF5CB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3D6D-8965-4993-9954-AA92EE8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D201-5C34-4C46-9830-534ADBD0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FBAB-8D13-4C54-A2F7-C8BD5E31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8BC1-C7B1-4FD8-B391-3826E22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22C4-66E3-4EFF-A713-C2BF114E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7720-D8F4-46A0-8F4F-C07E309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21E9-6353-4EDE-9662-2F178648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2F38-1A70-4EB5-BA7B-050AD5B3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D735-D495-4EB7-8102-98CD0E0B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C28-915A-4B71-BDEC-6FEF60B6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9DC-3901-498C-A781-B88A1986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1C0-359B-4464-9DF8-BA475E5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AF3-44DA-4D83-9B5B-FFAD2836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6BF-3FBC-4B1B-9124-D375714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934-F6C2-4416-8A45-EE08573A069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CFC0-4771-422B-823C-EA1D799D6DA4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93F6-CEE0-444E-990C-295ABFA0EEB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D75B-A9BA-4489-87F3-FBBD260C9E8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anadianbiodiversity.mcgill.ca/english/ecozones/atlanticmaritime/atlanticmaritime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4c600"/>
                </a:solidFill>
                <a:latin typeface="Century Gothic"/>
              </a:rPr>
              <a:t>Ecozones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Century Gothic"/>
              </a:rPr>
              <a:t>Atlantic Canad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24680" cy="21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at is an Ecozone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 ecozone is a region that has similar landforms, vegetation and wildlif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cozones are affected by climat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820520" y="-8104680"/>
            <a:ext cx="3715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Content Placeholder 5" descr=""/>
          <p:cNvPicPr/>
          <p:nvPr/>
        </p:nvPicPr>
        <p:blipFill>
          <a:blip r:embed="rId1"/>
          <a:stretch/>
        </p:blipFill>
        <p:spPr>
          <a:xfrm>
            <a:off x="1143000" y="603360"/>
            <a:ext cx="701028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tlantic Canad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32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re are two major ecozones in Atlantic Canad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ova Scotia, New Brunswick and Prince Edward Island are in the Atlantic Maritime Ecozo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wfoundland and Labrador is in the Southern Shield Zo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9036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nadianbiodiversity.mcgill.ca/english/ecozones/atlanticmaritime/atlanticmaritime.h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lantic Maritime Ecozone.wmv - YouTube.mp4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609120"/>
            <a:ext cx="70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tlantic Maritime Shiel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Oval 3"/>
          <p:cNvSpPr/>
          <p:nvPr/>
        </p:nvSpPr>
        <p:spPr>
          <a:xfrm>
            <a:off x="3581280" y="1936800"/>
            <a:ext cx="2286000" cy="1949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762120" y="190512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3581280" y="4357800"/>
            <a:ext cx="228600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6248520" y="4357800"/>
            <a:ext cx="220968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762120" y="434340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6248520" y="1905120"/>
            <a:ext cx="220968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1348920" y="19033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odies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4051080" y="21398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ndform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6678360" y="21146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Veget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1452600" y="4484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dlif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065840" y="43434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TextBox 17"/>
          <p:cNvSpPr/>
          <p:nvPr/>
        </p:nvSpPr>
        <p:spPr>
          <a:xfrm>
            <a:off x="6816960" y="446076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canadianbiodiversity.mcgill.ca/english/ecozones/borealshield/borealshield.h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Boreal Shield Ecozone - YouTube.mp4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uthern Shiel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Oval 3"/>
          <p:cNvSpPr/>
          <p:nvPr/>
        </p:nvSpPr>
        <p:spPr>
          <a:xfrm>
            <a:off x="3581280" y="1936800"/>
            <a:ext cx="2286000" cy="1949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762120" y="190512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3581280" y="4357800"/>
            <a:ext cx="228600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6248520" y="4357800"/>
            <a:ext cx="220968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762120" y="434340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6248520" y="1905120"/>
            <a:ext cx="220968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TextBox 9"/>
          <p:cNvSpPr/>
          <p:nvPr/>
        </p:nvSpPr>
        <p:spPr>
          <a:xfrm>
            <a:off x="1348920" y="19033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odies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4051080" y="21398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ndform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6678360" y="21146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Veget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1452600" y="4484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dlif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4065840" y="43434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Box 14"/>
          <p:cNvSpPr/>
          <p:nvPr/>
        </p:nvSpPr>
        <p:spPr>
          <a:xfrm>
            <a:off x="6816960" y="446076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4:09:32Z</dcterms:created>
  <dc:creator>ladmin</dc:creator>
  <dc:description/>
  <dc:language>en-US</dc:language>
  <cp:lastModifiedBy>Terry, Sean J. (ASD-E)</cp:lastModifiedBy>
  <dcterms:modified xsi:type="dcterms:W3CDTF">2017-12-06T02:14:05Z</dcterms:modified>
  <cp:revision>8</cp:revision>
  <dc:subject/>
  <dc:title>Ecozones</dc:title>
</cp:coreProperties>
</file>